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0837-27A7-4334-96E6-8610D8AC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91F-8B18-4864-BCF1-A6908EA2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EAA-5513-490D-9AB9-0167B1B9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C37-B556-464C-B105-AB59B23B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7B6-E6E2-4793-B159-0E591788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BBE-A9D4-45FD-98E0-37E8F38D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A75-20E1-4767-99BE-3CEE9A90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638-26DC-44E0-BBF1-4F396059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D55-6309-4583-BCBA-F85F039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A20-EC15-4857-AA8D-00E2511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283-6D8E-44F6-932A-7FE753C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2F2-C77E-4047-800B-3F96E7D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616E-DA50-4333-ADA1-9F74C422DE9C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ranologie.com/history/Achaemenid/chapter%20I.html" TargetMode="External"/><Relationship Id="rId2" Type="http://schemas.openxmlformats.org/officeDocument/2006/relationships/hyperlink" Target="http://en.wikipedia.org/wiki/Zoroastrianism" TargetMode="External"/><Relationship Id="rId3" Type="http://schemas.openxmlformats.org/officeDocument/2006/relationships/hyperlink" Target="http://www.hsc.csu.edu.au/ancient_history/societies/near_east/persian_soc/persiansociety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By Alex and Z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71640" y="1773360"/>
            <a:ext cx="7062840" cy="26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The Persian Empire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3573360"/>
            <a:ext cx="1368360" cy="1440000"/>
          </a:xfrm>
          <a:prstGeom prst="wedgeEllipseCallout">
            <a:avLst>
              <a:gd name="adj1" fmla="val 32250"/>
              <a:gd name="adj2" fmla="val 698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y there! I’m Clark the camel! Lets learn about the Pers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6HkW-kGZQk&amp;feature=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585880"/>
            <a:ext cx="914400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835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f the greatest architectural feats of the Persian Empire include when Cyrus II built the first Persian capital at Pasargadae, and then later when Darius I moved the capital to Persepo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chitecture of the Persian empire was a conglomerate of the nations that Persia conqu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laces were decorated with stone r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The Great Persian Empire &quot; Perspolis &quot;"/>
          <p:cNvPicPr/>
          <p:nvPr/>
        </p:nvPicPr>
        <p:blipFill>
          <a:blip r:embed="rId1"/>
          <a:stretch/>
        </p:blipFill>
        <p:spPr>
          <a:xfrm>
            <a:off x="5335560" y="1628640"/>
            <a:ext cx="3808440" cy="253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516720" y="4221000"/>
            <a:ext cx="2406600" cy="2427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rui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55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usly, the Persians practiced Zoroastrianism, a monotheistic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Zoroastrianism, there was one creator: Ahura Ma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focuses were honesty and free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fifth century BCE, Zoroastrianism had spread throughout the entir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odotus wrote (during Atraxerxes I and Darius II) that the Perses “have no images of the gods, no temples nor altars, and consider the use of them a sign of foll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also wrote about the Persians worshiping the sun and moon, earth, fire, water, and the 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there is a stone relief of Ahura Maz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ranologie.com/history/Achaemenid/chapter%20I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Zoroastr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sc.csu.edu.au/ancient_history/societies/near_east/persian_soc/persiansociet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istoryworld.net/wrldhis/PlainTextHistories.asp?historyd=aa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angelfire.com/empire2/unkemptgoose/Persian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404640"/>
            <a:ext cx="1368360" cy="1440000"/>
          </a:xfrm>
          <a:prstGeom prst="wedgeEllipseCallout">
            <a:avLst>
              <a:gd name="adj1" fmla="val -77495"/>
              <a:gd name="adj2" fmla="val -445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bye folk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76360" y="7128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11592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The Persians were a powerful nation in ancient times. They reigned from about 550-330 BCE, succeeding the Median empire. Together the Median and Persian empires were known as Medo-Persian empire. The Persian rule ended with Darius III when the Macedonians, led by Alexander the Great, invaded P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40000" y="0"/>
            <a:ext cx="446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Overview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us II, the great- 550-5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yses II- 529-522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erdis- 522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, the great- 521-486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 I, the great- 485-465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 Longimanus- 465-42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erxes II- 424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gdianus- 424-423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I Nothus- 423-405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I Mnemon- 405-359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II Ochus- 358-338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axerxes IV Arses- 338-336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II Codomannus-  336-330 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076640"/>
            <a:ext cx="1368720" cy="1440000"/>
          </a:xfrm>
          <a:prstGeom prst="wedgeEllipseCallout">
            <a:avLst>
              <a:gd name="adj1" fmla="val 42921"/>
              <a:gd name="adj2" fmla="val 5496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w, those guys sound power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1080" y="5346720"/>
            <a:ext cx="1942920" cy="151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2472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2472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95640" y="189000"/>
            <a:ext cx="417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Location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1844640"/>
            <a:ext cx="6769440" cy="175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Located in what is now the Middle 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It included what is now Pakistan, Afghanistan, parts of central Asia, and Asi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At it’s peak it also included Egypt and parts of the Black Sea coastal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573360"/>
            <a:ext cx="1368360" cy="1440000"/>
          </a:xfrm>
          <a:prstGeom prst="wedgeEllipseCallout">
            <a:avLst>
              <a:gd name="adj1" fmla="val 32250"/>
              <a:gd name="adj2" fmla="val 6984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w! The Persians sure knew how to expa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532800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Persian Empire was governed by a mon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Empire was divided up into 23 satrap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governors of these satrapies were known as satr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satrapies were linked by a 25 000 kilometer hig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Generals were in charge of military recruitment and ensuring order while the secretary of state kept official rec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 capital of Persia was first at Pasargadae then in 518 BCE moved to Persepol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Good infrastructure promoted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Political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4724280"/>
            <a:ext cx="1368720" cy="1440000"/>
          </a:xfrm>
          <a:prstGeom prst="wedgeEllipseCallout">
            <a:avLst>
              <a:gd name="adj1" fmla="val -72736"/>
              <a:gd name="adj2" fmla="val 106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y nice beard Cy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91360" y="3879720"/>
            <a:ext cx="23842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first, Persian economy was based on herding due to poor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as until Persia acquired the fertile lands of Mesopotamia and the grasslands of Anato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s had access to metal rich depo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e routes were num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ius instituted Many economic policies: systemized taxation, standardized weights and measures, standardized moneta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aspects of the Persian economy include royal trading ships, a banking system and the promotion of international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Economic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4221000"/>
            <a:ext cx="1440000" cy="1440000"/>
          </a:xfrm>
          <a:prstGeom prst="wedgeEllipseCallout">
            <a:avLst>
              <a:gd name="adj1" fmla="val -46912"/>
              <a:gd name="adj2" fmla="val 503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there is an Achaemenid co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File:Achaemenid coin daric 420BC front.jpg"/>
          <p:cNvPicPr/>
          <p:nvPr/>
        </p:nvPicPr>
        <p:blipFill>
          <a:blip r:embed="rId2"/>
          <a:stretch/>
        </p:blipFill>
        <p:spPr>
          <a:xfrm>
            <a:off x="6102360" y="4221000"/>
            <a:ext cx="25732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ersian society, the family was the basic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ther ruled the family absolu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were desired to be he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amy was encouraged as s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families formed a clan and several cl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lasses were split into upper and lower class in order to avoid the untouchable clas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ere many sub-classes inside each of the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ders, rulers and religious figures belonged to the up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wer class included clergy, artisans, and her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189000"/>
            <a:ext cx="460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Social Structure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862520"/>
            <a:ext cx="48988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society was male dom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gamy was a common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usband was generally the ruler and the wife and children were treated like sl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bet it would be cool to be a no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art is an accumulation of many other cultures, having been conquered when the Persians inv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an artisans were most known for their stone relief carvings, metalwork, carpets and cylinder se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059280" y="0"/>
            <a:ext cx="287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Art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516720" y="2349360"/>
            <a:ext cx="228132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516720" y="4811760"/>
            <a:ext cx="2468520" cy="196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516720" y="260280"/>
            <a:ext cx="1917720" cy="2094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132000" y="4076640"/>
            <a:ext cx="3384720" cy="2622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4000" y="4919760"/>
            <a:ext cx="2808000" cy="189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72120" y="1719360"/>
            <a:ext cx="1344600" cy="2357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04880" y="3633840"/>
            <a:ext cx="24271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855440"/>
            <a:ext cx="82296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 army consisted of conscripted troops from many nations such as Egyptians, Assyrians, Scythians, Bactrians and Ethiop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antry used spears, Archers used what is known as a recurved bow, Cavalry and missile troops made up the bulk of the a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sians relied on speed and agility during b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 was not common, normally worn by wealthy soldiers and the immor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elds were common and reli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ariety of weapons were used, including the: thrusting spear, palta (spear), akinakes and xiphos (both swords), kopis and akinaka (dagger like weapons), bows and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195640" y="142920"/>
            <a:ext cx="45370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7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Palatino Linotype"/>
              </a:rPr>
              <a:t>Weaponry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Palatino Linotype"/>
              <a:ea typeface="Palatino Linotyp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95920" y="5429160"/>
            <a:ext cx="344808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43360" y="4397400"/>
            <a:ext cx="4400640" cy="104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059360" y="5243400"/>
            <a:ext cx="1665000" cy="1641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68360" y="5229360"/>
            <a:ext cx="1368720" cy="1439640"/>
          </a:xfrm>
          <a:prstGeom prst="wedgeEllipseCallout">
            <a:avLst>
              <a:gd name="adj1" fmla="val -81092"/>
              <a:gd name="adj2" fmla="val -1758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e wouldn’t want to fight these guy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0" y="5373720"/>
            <a:ext cx="1908000" cy="1484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5445000"/>
            <a:ext cx="14292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544500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9:48:52Z</dcterms:created>
  <dc:creator>Profile</dc:creator>
  <dc:description/>
  <dc:language>en-US</dc:language>
  <cp:lastModifiedBy>ripkensa</cp:lastModifiedBy>
  <dcterms:modified xsi:type="dcterms:W3CDTF">2009-10-18T18:07:54Z</dcterms:modified>
  <cp:revision>11</cp:revision>
  <dc:subject/>
  <dc:title>Slide 1</dc:title>
</cp:coreProperties>
</file>